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F93-CDAA-437E-8C93-BE83097F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0B1-4B6D-43E4-B277-440BF436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1A5-D747-45C6-915C-AE48E34C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235-95C8-4A46-ABBF-A6CC231F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5D3-581D-4674-B140-C9E1F01D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D1E-22CB-49B5-87AD-6E233F4B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9A1-1044-4C90-B642-9CC95110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90A-3ED4-438D-A0BC-0A2C30B7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5AB-2B1F-4CB1-872D-B9FB47D3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F7E-3C51-420A-A391-870561D8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FD9-B404-412C-A584-63ADC85E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9CF-17D4-4FB9-9B03-D983E668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EF27-4FF5-411C-9F8C-46439FB6E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129 Čuj, Otče, prosby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, Otče, prosby hl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kloň sa k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 nami v tento č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môž s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, Otče, prosby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 nami v tento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avo prijmi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iech odpusť n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 srdcia stráp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iedne a zran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strat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rád nás m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, Otče, prosby hl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kloň sa k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 nami v tento č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mô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by nás nepria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klamať, zničiť chc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drahý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sloboď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pravú múdrosť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vždy sa priznáv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o sprevádz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, Otče, prosby hl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kloň sa k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 nami v tento č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mô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deľ nám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iere stá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ísť z 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ebou l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viesť nás, Pane,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uď vždy svetlom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mieme žiť raz t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večn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20:29:24Z</dcterms:modified>
  <cp:revision>21</cp:revision>
  <dc:subject/>
  <dc:title>Je veľký náš Pán, on slávy je Kráľ Nech do všetkých strán  spev vrúcnych znie chvál.</dc:title>
</cp:coreProperties>
</file>